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3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3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3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49E4-0CEA-4BFD-9684-019AF4614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7D54-F3B6-4F8F-AE9D-B2DFDC6DF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FCAC-719D-436B-A938-237BA0452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0B12-B734-4CE8-8740-B7599D1F2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4267-9AD4-421B-9F23-0907D8F35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0E81-A9B4-4378-BB8E-18491C67F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4014-1606-4CFA-9615-4F8B5A471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C36C-8903-448B-BBAE-C2ACCD9E0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B474-17E8-4E3A-A427-06C543D8D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CB5462-9A86-4F16-BEDA-6414538E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13D64F-FF71-46E0-BFD1-3C720539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7294CA-54C3-458A-BF3C-C885FE8C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88A375-742E-4936-AE98-7D3DC775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058A01-C3E2-40E9-A372-BE3FBB3A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964628-5A31-4220-AE05-7200EA1B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E13926-AEC4-4FC3-BE3C-E426C165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D9AE13-FCBB-4CF3-80CD-2714DFEA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0CDD05-67FE-4B37-919F-E2E877D6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589899-1B86-4468-A504-273A102E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D6BB0-4D87-41C3-89A8-B3926ADA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9AA762-ED8A-41AF-B4C5-A42D933B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44BCB3-CA67-447C-9D55-2B2C773B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28C221-E772-4E59-AB46-6BA63FD2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F09212-AB3A-44A2-B4F4-222E07E7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4B7972-9AFD-4DDB-827D-EFD28885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0B61DC-6871-422C-AC68-92C945EB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ECDB1E-0159-473C-B1AC-6220384D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8708B7-5B2B-42D9-AC21-2D180D05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AAC3D4-4640-48B1-8C50-E1996242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B1DF9D-6F10-42F5-B2C3-3ACFAE5A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6EAC9C-494C-4DA9-B227-CDCB713C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BBF302-8D7E-4977-89AD-749E3723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597D89-963D-44F6-A046-D7F6DB6C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9C04AD-1F9E-4AA2-96A8-08FAF4A4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B15D97-EFEC-49E1-A7DA-C13868D6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B32BDF-79E4-44DB-8786-04055B29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3DAA23-0B25-4791-9AE5-FCC182CA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760ECB-1080-4E0A-B3C2-F23AFCF5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207584-F1FB-45BA-8E64-10244BB1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928BD-E90E-49E3-9399-18173AD1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89B980-1747-4279-9A82-6E620D48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559FFD-B0FD-4A3C-B5AC-44EAE926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2AB0A1-DE7A-452A-8CA8-F605C178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440C61-A1ED-4776-8958-CA6F78FC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CF1ADE-E730-427E-A14A-376D6AFC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ADF55B-6EC1-4502-9766-250E7639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DA45EC-25EC-4B41-9B49-959FE07D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D470D9-0FB0-4642-A997-C3CF4CB2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3265B2-50BE-4E4F-8D15-284288DF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79DE16-8E5D-4AFC-AC91-8261F6C6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9F204-6DBF-4340-A90A-DA14D061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3D7343-069B-46BB-8844-99896333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1344F4-C659-4A55-B906-CAFF7C0E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7857DA-0159-4937-B5E0-AF87AF14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F6DE40-02F9-4B52-ACB7-E1E80F2A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82C8EF-BB25-434B-98F2-8598CBDC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8317A-4885-4561-8831-0850D387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6745A-B02E-459A-90ED-1E87BFFE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DF770-4BE9-41D7-873F-23414690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B43D2-1C9E-4AF0-B30E-A2D89B3C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EE899-1900-4B79-AE04-6FF1A86A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58237-96E1-4716-A294-F943CB91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EB75F-210A-4A8E-B472-602AC4CA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3A30E-039F-4AD6-A6C1-02057FF6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BFA5B-D1B3-43CA-873E-C6EE204E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7A1B6-0B4D-4A3C-B190-DD54F8D1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8C959-E000-4B4D-ABE2-A0D95770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F8E1B-FD4A-4D05-B583-F0CBB484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BE4FA-AA92-4F69-BC79-399100C6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2F9EA5-6E9D-4D96-8666-517D37D6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D7ECC-8F85-4A2D-B249-429D5287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7B539-6723-41C2-A6E7-D6F74AFE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A85D6-F06E-41F4-B4F6-1F18FAAC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1DF2FE-9171-4722-8367-F5F57DF5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A7260-4568-43D2-9C27-C37438F6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55859-4DDC-41A0-B755-5E1552EC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90520-6F41-42EE-881D-F122C4A3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426FE-5600-437D-9288-E29682D0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FF8423-9DCE-47F0-B118-26BC2210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B9A760-FDEA-47A5-B21A-ACE25026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859A58-4F7B-40DA-9E7C-19B238C9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64D33F-1A16-488A-9244-7F6CCEC7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3C9B7D-BB35-4D5A-9E5A-75B670AD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F37AAE-9756-41BE-837A-F7609373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36E1A7-800D-4513-B5CC-48523E90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C2CF31-03A6-4D12-9985-D7430C5A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C6BC49-1279-40EF-8BC5-CD521FBE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E68A43-0CBB-4343-90E0-82581974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DFEE63-5A85-436A-A5F8-09E8FC7E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58803D-E0D1-4072-92C6-7153AAEC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01239-A7EF-49D8-8A4A-A3F84672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22356B-CC6E-44D8-BCF5-572B5146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F8D6FA-7B03-4152-BC2E-62D92459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11A64-27E9-4A1C-8AF0-579A5FE5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E9D98-5698-475A-86D7-1E2A0E1F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F32985-88B4-4BDC-A863-5EC3A594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7E6E0C-C35C-436A-949A-68235BC5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1B282-AC20-43EC-9E85-C66D6279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D1BBF7-A12E-43BE-9100-F83A21DA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E7C13E-DD78-46A8-8F58-5A6C0269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3894E8-D939-448E-AFB9-4954A132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D17844-D683-4A45-97C3-03BDA2BB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AC0C5B-9F00-4F37-ACA9-275EE7A9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359833-BD99-488C-A2C6-53A56D7A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B66EC9-DB91-43D5-8AC1-5409CA84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EFB33-C716-4510-A3D2-E44E49BE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BED28A-17DC-40D3-98DF-8DDABFA3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5C3B39-1C60-43C6-92FC-31D4B0CD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F41D91-A1D8-4E85-BF1D-21B4E2B4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F6C54D-CFA5-4B5B-92AD-1B3E7CC3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56382B-2E37-4E77-BFE5-898BD901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001631-EE54-46E3-BFB6-22B724C8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C978F3-DC47-4711-957E-E6E3D637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EADE4E-93F0-48A1-8C78-5234B14B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2FAB29-9F5A-494E-A13A-E194404C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E80FD5-4A60-4893-91CC-DD1C3881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B0FC5E-0BBB-42BE-BDBD-2F536014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F5AC23-A4F9-4083-A108-AF6E4F28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BA76B6-60B4-4056-871B-3A1E9BEB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A797EF-59EF-4C72-AB82-19E13F83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DBA95C-ACD8-495E-B00D-10438675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F90390-31BE-4885-B850-CFDCA9DF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1DF4BC-B3C2-4E92-87C6-7CBAA045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16D1C2-433F-434C-B156-FEB4DF7C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D5C771-FE93-4FE5-91F7-5C56F325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2F2749-D89A-4528-8322-EA182F87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FA04F5-77CE-4346-A016-0A6EC0C9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1D8CA3-0E7F-4FCE-B766-B9E40F7E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E0813B-FC1C-4BF4-A6C7-23D18B17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234A5F-3641-4F39-9C85-897DA9E4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9EE14C-EF6D-4DFB-B832-79BB8B12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5251E4-B58F-4DA7-B347-0B3CA6B5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9FD744-C5E0-4EB8-B53B-4EB6AF5D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219C23-D7B1-408D-963C-8DD538D4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C582F4-69C9-4DB1-8FEC-86322371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D1D972-7337-4169-A326-5D43EF29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65F293-0293-403D-B286-2F3F295F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74319A-FDB6-49F6-B981-676FD308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02EEF2-457B-4F02-A1B0-F138FA18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E9D8D4-9ECC-4F39-AE43-1C4CB495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E02C37-A898-488C-A071-0F930565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C3B0-C464-4169-AF6C-7DF0F07FD449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ABA7-7AE4-4DAB-8A49-98B4A085BDDA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8E02-BC17-4FAC-AC07-FD526F1F04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2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07DB-77F2-4BB7-9103-EE6D5E3FE453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2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6EFF-33B2-4076-ADE7-7EA947DBEF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E5AE-D94F-4AEC-8985-8FD6762E47F4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178E-5DF1-4652-B6B4-5759FD866F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4B4A-02A0-464F-B938-335D36354F8C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757C-3B07-4260-9926-618B0AE1EE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9E78-0C5E-4E85-9FC4-144F9F20A886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9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4CA7-1A47-4458-9F3F-4D156D7DEA43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1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6378-AD51-4BC6-93CB-7B10651FBE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41DF-FD67-495B-AAAA-B0FD3FE41FE5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3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4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FDF2-7B99-4262-8A18-0F23E6F610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5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E36B-EC88-4ED5-ABAD-67172F7C655C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6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7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3AAA-25CF-4691-B637-9FBC369D33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75B1-A88A-4689-9EE7-214F4C5296C7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66D1-04AB-4B90-8202-5CC78AE97E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1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7A63-02C8-48D9-BE3B-1AD94C988398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3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5625-9C8C-43C1-8318-199DAE71BE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EADC-8960-4A11-89A1-D8CBFE80A16E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6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848F-E94E-40A0-874B-C1003D65D2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746784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en-US" sz="4000" spc="-1" strike="noStrike">
                <a:solidFill>
                  <a:srgbClr val="323232"/>
                </a:solidFill>
                <a:latin typeface="Cambria"/>
              </a:rPr>
              <a:t>Opportunities for leveraging with PPP (NAFAKA)</a:t>
            </a: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38080" y="3809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7952"/>
                </a:solidFill>
                <a:latin typeface="Calibri"/>
              </a:rPr>
              <a:t>J.Rusi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ubtitle 2"/>
          <p:cNvSpPr/>
          <p:nvPr/>
        </p:nvSpPr>
        <p:spPr>
          <a:xfrm>
            <a:off x="3048120" y="1143000"/>
            <a:ext cx="531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earch Review &amp; Planning Meet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frica RISING – East &amp; Southern Africa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-5 October 2012, Arush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NAFAKA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04920" y="21333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Means g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Project staples value chain 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Currently very active rice sector in Kilombero and Mvom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5 Components (in rice sector plan for maiz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habilitating value cha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crease productivity in the two cr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novative trade and competitiv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novative partnerships (ACDI-VOCA, MVIWATA,FIPS, RUDI, C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creasing income for vulnerable comm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684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Entry point: village level FO: Identify existing or non-exis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Do assessment see area for strengthening/develop partnerships: district federated FOS (Apex producer, outgrowers, cooperatives in crop produc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Mother-Baby Trials: variety, fertilizer (YAR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Agrodeal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Post-harvest: Storage, warehouse receipt systems; SACC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Markets (Kibaigwa):  Local assembly, central, bargaining, finance/cre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476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476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533520" y="182880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For maize targeted high potential area based on soil fertility, rainf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 Kiteto 17 villages; Kongwa 33 villages; Mvomero 12 villages; in Kilombero divided into 2 clu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other trials 12x20 meters: 33 in Kongwa, 21 in Kite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aize varieties: Hybrids (Pioneer, DK, Tanseed); OPVs (Uganda Longe 6, Longe 4, Situk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All those attend during planting mothers demos each get varieties for baby tri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Comparison between Mother and ba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Livestock:  FIPS Chicken vaccinations but stop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District Officers where to locate, farmers invited to participate about 100 far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052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For maize targeted high potential area based on soil fertility, rainf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 Kiteto 17 villages; Kongwa 33 villages; Mvomero 12 villages; in Kilombero divided into 2 clu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other trials 12x20 meters: 33 in Kongwa, 21 in Kite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aize varieties-: Hybrids (Pioneer, DK, Tanseed); OPVs (Uganda Longe 6, Longe 4, Situk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All those attend during planting mothers demos each get varieties for baby tri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Comparison between Mother and ba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Baby trials no fertilizer. Mother trials use fertilizer YARA , Minjingu PR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District Officers where to locate, farmers invited to participate about 100 far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052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Comparative advantage of the CGIAR agricultural systems production research; Contractors (ACDI, Abt) in value chai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The program document/work plan of AR sc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USAID wants the two types of implementers to cooperate: Which project goes the credit for the value chain work (not counting twice), once for each proje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8052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Evaluation is in two p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1 Technologies per se using a GxEXMXLX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RCTs to go beyond plot level random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2 delivery value chain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Quasi-experimental approaches (before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nd after interventions and with and without interventions i.e. difference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 differences; propensity score matching; Instrumental Variables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ssess the value added NAFAKA/ABT/DAI with and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without technologies from the CGIARs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Difference can be attributed to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value chain work/agricultural production systems research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Thank you!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2209680" y="5638680"/>
            <a:ext cx="838440" cy="4194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C:\Users\Corporate Comms\Downloads\icrisat_logo.jpg"/>
          <p:cNvPicPr/>
          <p:nvPr/>
        </p:nvPicPr>
        <p:blipFill>
          <a:blip r:embed="rId2"/>
          <a:stretch/>
        </p:blipFill>
        <p:spPr>
          <a:xfrm>
            <a:off x="914400" y="6172200"/>
            <a:ext cx="1295280" cy="4096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"/>
          <p:cNvPicPr/>
          <p:nvPr/>
        </p:nvPicPr>
        <p:blipFill>
          <a:blip r:embed="rId3"/>
          <a:stretch/>
        </p:blipFill>
        <p:spPr>
          <a:xfrm>
            <a:off x="2971800" y="6019920"/>
            <a:ext cx="905040" cy="5968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6" descr=""/>
          <p:cNvPicPr/>
          <p:nvPr/>
        </p:nvPicPr>
        <p:blipFill>
          <a:blip r:embed="rId4"/>
          <a:stretch/>
        </p:blipFill>
        <p:spPr>
          <a:xfrm>
            <a:off x="3886200" y="6019920"/>
            <a:ext cx="1219320" cy="5191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0" descr="logo-new"/>
          <p:cNvPicPr/>
          <p:nvPr/>
        </p:nvPicPr>
        <p:blipFill>
          <a:blip r:embed="rId5"/>
          <a:stretch/>
        </p:blipFill>
        <p:spPr>
          <a:xfrm>
            <a:off x="6400800" y="5410080"/>
            <a:ext cx="797040" cy="10670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1" descr=""/>
          <p:cNvPicPr/>
          <p:nvPr/>
        </p:nvPicPr>
        <p:blipFill>
          <a:blip r:embed="rId6"/>
          <a:stretch/>
        </p:blipFill>
        <p:spPr>
          <a:xfrm>
            <a:off x="152280" y="5638680"/>
            <a:ext cx="1133640" cy="53496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2"/>
          <p:cNvSpPr/>
          <p:nvPr/>
        </p:nvSpPr>
        <p:spPr>
          <a:xfrm>
            <a:off x="5181480" y="5334120"/>
            <a:ext cx="1089000" cy="12952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9" descr=""/>
          <p:cNvPicPr/>
          <p:nvPr/>
        </p:nvPicPr>
        <p:blipFill>
          <a:blip r:embed="rId8"/>
          <a:stretch/>
        </p:blipFill>
        <p:spPr>
          <a:xfrm>
            <a:off x="7162920" y="5638680"/>
            <a:ext cx="114300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3:43:14Z</dcterms:created>
  <dc:creator>JTOliver</dc:creator>
  <dc:description/>
  <dc:language>en-US</dc:language>
  <cp:lastModifiedBy>LeBorgne, Ewen (ILRI)</cp:lastModifiedBy>
  <cp:lastPrinted>2011-10-06T11:45:23Z</cp:lastPrinted>
  <dcterms:modified xsi:type="dcterms:W3CDTF">2012-10-03T11:32:23Z</dcterms:modified>
  <cp:revision>867</cp:revision>
  <dc:subject/>
  <dc:title>PowerPoint Presentation</dc:title>
</cp:coreProperties>
</file>